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3D2-BC4B-454E-A9AE-ED3BD92E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48B-F101-43EC-A5DD-8030254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2B8-D76A-4EA4-94CA-FCA84AAA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4AE-5DC3-40E9-A2E0-B4209377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26E-7A15-447E-967D-6DDA94E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9BE-5F9F-4C4B-B811-B27B152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FA2-3920-4DF3-A042-244B319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81B-6148-4B99-9580-DE49B37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413-0E68-47AA-ACEB-D21C2A66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61E-82B9-46AB-9447-AB1208C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DBB-E042-4445-AADC-85032C5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8C9-47F6-4372-9B25-958EDC4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972-09FD-45C8-A0BC-854BA42A8322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1125360"/>
            <a:ext cx="655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Unităţi de măsură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recapitulare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26920" y="3860640"/>
            <a:ext cx="7560000" cy="462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butoaie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2519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50920" y="260280"/>
            <a:ext cx="8642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În trei cisterne sunt următoarele cantităţi de motorină: 245 l, 203 l şi 189 l.                                                                                              Câţi litri de motorină trebuie luat din prima şi a doua cisternă pentru a egala cantităţile cu cisterna a tre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3200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45 l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059280" y="3141720"/>
            <a:ext cx="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14036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9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916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3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4724280"/>
            <a:ext cx="864072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ompletează rebus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80000" y="907920"/>
          <a:ext cx="5160960" cy="5639040"/>
        </p:xfrm>
        <a:graphic>
          <a:graphicData uri="http://schemas.openxmlformats.org/drawingml/2006/table">
            <a:tbl>
              <a:tblPr/>
              <a:tblGrid>
                <a:gridCol w="431640"/>
                <a:gridCol w="360360"/>
                <a:gridCol w="431640"/>
                <a:gridCol w="432000"/>
                <a:gridCol w="504720"/>
                <a:gridCol w="422280"/>
                <a:gridCol w="426960"/>
                <a:gridCol w="432000"/>
                <a:gridCol w="428400"/>
                <a:gridCol w="432000"/>
                <a:gridCol w="426960"/>
                <a:gridCol w="4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224"/>
          <p:cNvSpPr/>
          <p:nvPr/>
        </p:nvSpPr>
        <p:spPr>
          <a:xfrm>
            <a:off x="250920" y="907920"/>
            <a:ext cx="3457440" cy="558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Are 24 de ore… 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O zece e formată din zece..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Numere fără soţ…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Măsoară lungimea…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60 de minute…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Măsoară capacitatea…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Anul care are 366 zile ….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Bani din metal…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9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Numerele care se adună...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0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7 zile…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1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4 săptămâni…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Zece zeci formează o…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Anul este alcătuit din 12…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4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Unitatea de măsură pentru masă…                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5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Rezultatul adunări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189000"/>
            <a:ext cx="849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ecând de acasă spre şcoală, Irina a parcurs 300 m, dar până la jumătatea distanţei mai are 200 m.                                         Câţi m sunt de acasă până la şcoal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Proiecte Case la cheie - Planuri Case Archeton de la Archeton S.r.l."/>
          <p:cNvPicPr/>
          <p:nvPr/>
        </p:nvPicPr>
        <p:blipFill>
          <a:blip r:embed="rId1"/>
          <a:stretch/>
        </p:blipFill>
        <p:spPr>
          <a:xfrm>
            <a:off x="179280" y="1484280"/>
            <a:ext cx="191628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6516720" y="2060640"/>
            <a:ext cx="248436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6372360" y="1628640"/>
            <a:ext cx="2771640" cy="4320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716436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59636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73272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16436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8244000" y="2637000"/>
            <a:ext cx="50328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59636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7993080" y="198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99"/>
                </a:solidFill>
                <a:latin typeface="Times New Roman"/>
              </a:rPr>
              <a:t>Şco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8244000" y="3429000"/>
            <a:ext cx="576000" cy="1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539640" y="2852640"/>
            <a:ext cx="223200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2987640" y="335772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8"/>
          <p:cNvSpPr/>
          <p:nvPr/>
        </p:nvSpPr>
        <p:spPr>
          <a:xfrm>
            <a:off x="3276720" y="3429000"/>
            <a:ext cx="2156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3851280" y="3573360"/>
            <a:ext cx="216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3564000" y="3500280"/>
            <a:ext cx="216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4140360" y="3645000"/>
            <a:ext cx="2156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3"/>
          <p:cNvSpPr/>
          <p:nvPr/>
        </p:nvSpPr>
        <p:spPr>
          <a:xfrm>
            <a:off x="4427640" y="357336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>
            <a:off x="4500720" y="3716280"/>
            <a:ext cx="39607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 rot="16916400">
            <a:off x="1518840" y="2090160"/>
            <a:ext cx="244440" cy="2346120"/>
          </a:xfrm>
          <a:custGeom>
            <a:avLst/>
            <a:gdLst>
              <a:gd name="textAreaLeft" fmla="*/ 156240 w 244440"/>
              <a:gd name="textAreaRight" fmla="*/ 244440 w 244440"/>
              <a:gd name="textAreaTop" fmla="*/ 60840 h 2346120"/>
              <a:gd name="textAreaBottom" fmla="*/ 2285280 h 23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 rot="16916400">
            <a:off x="3466800" y="2968200"/>
            <a:ext cx="258840" cy="1512720"/>
          </a:xfrm>
          <a:custGeom>
            <a:avLst/>
            <a:gdLst>
              <a:gd name="textAreaLeft" fmla="*/ 165600 w 258840"/>
              <a:gd name="textAreaRight" fmla="*/ 259200 w 2588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7"/>
          <p:cNvSpPr/>
          <p:nvPr/>
        </p:nvSpPr>
        <p:spPr>
          <a:xfrm rot="382800">
            <a:off x="971280" y="32842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3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 rot="289800">
            <a:off x="2987280" y="37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2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24000" y="4292640"/>
            <a:ext cx="8569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Rezolv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3"/>
          <p:cNvSpPr/>
          <p:nvPr/>
        </p:nvSpPr>
        <p:spPr>
          <a:xfrm>
            <a:off x="8459640" y="371628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4"/>
          <p:cNvSpPr/>
          <p:nvPr/>
        </p:nvSpPr>
        <p:spPr>
          <a:xfrm>
            <a:off x="2843280" y="321300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45"/>
          <p:cNvSpPr/>
          <p:nvPr/>
        </p:nvSpPr>
        <p:spPr>
          <a:xfrm>
            <a:off x="468360" y="270828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Bunica a umplut cu 3 litri de lapte mai multe vase de mărimi diferite astf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1125360"/>
            <a:ext cx="8713800" cy="212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litru de lapte în două vase de aceeaşi mă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litru de lapte în 4 vase de aceeaşi mă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 litru de lapte în 8 vase de aceeaşi mă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are este numărul vaselor de acelaşi f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9280" y="3284640"/>
            <a:ext cx="8785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ompletează fiecare t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4005360"/>
          <a:ext cx="8642160" cy="25905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f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jumă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r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b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ip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4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8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2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80 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00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00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24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Marius a alcătuit un grafic în care au notat lunar, rezultatul cântăririi căţelului primit de la unchiul să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628640"/>
          <a:ext cx="3673440" cy="365760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6840"/>
                <a:gridCol w="368280"/>
                <a:gridCol w="368280"/>
                <a:gridCol w="366480"/>
                <a:gridCol w="366840"/>
                <a:gridCol w="368280"/>
                <a:gridCol w="36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Line 138"/>
          <p:cNvSpPr/>
          <p:nvPr/>
        </p:nvSpPr>
        <p:spPr>
          <a:xfrm flipV="1">
            <a:off x="611280" y="4941360"/>
            <a:ext cx="36036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9"/>
          <p:cNvSpPr/>
          <p:nvPr/>
        </p:nvSpPr>
        <p:spPr>
          <a:xfrm flipV="1">
            <a:off x="971640" y="4508280"/>
            <a:ext cx="792000" cy="43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0"/>
          <p:cNvSpPr/>
          <p:nvPr/>
        </p:nvSpPr>
        <p:spPr>
          <a:xfrm flipV="1">
            <a:off x="1692360" y="3860640"/>
            <a:ext cx="7189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41"/>
          <p:cNvSpPr/>
          <p:nvPr/>
        </p:nvSpPr>
        <p:spPr>
          <a:xfrm flipV="1">
            <a:off x="2484360" y="3428640"/>
            <a:ext cx="719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2"/>
          <p:cNvSpPr/>
          <p:nvPr/>
        </p:nvSpPr>
        <p:spPr>
          <a:xfrm flipV="1">
            <a:off x="3203640" y="2349000"/>
            <a:ext cx="720720" cy="10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5"/>
          <p:cNvSpPr/>
          <p:nvPr/>
        </p:nvSpPr>
        <p:spPr>
          <a:xfrm>
            <a:off x="826920" y="5300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6"/>
          <p:cNvSpPr/>
          <p:nvPr/>
        </p:nvSpPr>
        <p:spPr>
          <a:xfrm>
            <a:off x="154764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7"/>
          <p:cNvSpPr/>
          <p:nvPr/>
        </p:nvSpPr>
        <p:spPr>
          <a:xfrm>
            <a:off x="2268360" y="530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8"/>
          <p:cNvSpPr/>
          <p:nvPr/>
        </p:nvSpPr>
        <p:spPr>
          <a:xfrm>
            <a:off x="298764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9"/>
          <p:cNvSpPr/>
          <p:nvPr/>
        </p:nvSpPr>
        <p:spPr>
          <a:xfrm>
            <a:off x="370836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0"/>
          <p:cNvSpPr/>
          <p:nvPr/>
        </p:nvSpPr>
        <p:spPr>
          <a:xfrm>
            <a:off x="179280" y="429264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1"/>
          <p:cNvSpPr/>
          <p:nvPr/>
        </p:nvSpPr>
        <p:spPr>
          <a:xfrm>
            <a:off x="179280" y="357336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2"/>
          <p:cNvSpPr/>
          <p:nvPr/>
        </p:nvSpPr>
        <p:spPr>
          <a:xfrm>
            <a:off x="179280" y="2852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3"/>
          <p:cNvSpPr/>
          <p:nvPr/>
        </p:nvSpPr>
        <p:spPr>
          <a:xfrm>
            <a:off x="179280" y="213372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4"/>
          <p:cNvSpPr/>
          <p:nvPr/>
        </p:nvSpPr>
        <p:spPr>
          <a:xfrm>
            <a:off x="684360" y="1052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5"/>
          <p:cNvSpPr/>
          <p:nvPr/>
        </p:nvSpPr>
        <p:spPr>
          <a:xfrm>
            <a:off x="4788000" y="501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ârsta în l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6" descr=""/>
          <p:cNvPicPr/>
          <p:nvPr/>
        </p:nvPicPr>
        <p:blipFill>
          <a:blip r:embed="rId1"/>
          <a:stretch/>
        </p:blipFill>
        <p:spPr>
          <a:xfrm flipH="1" rot="21334800">
            <a:off x="5579640" y="1413000"/>
            <a:ext cx="2170080" cy="1689120"/>
          </a:xfrm>
          <a:prstGeom prst="rect">
            <a:avLst/>
          </a:prstGeom>
          <a:ln w="0">
            <a:noFill/>
          </a:ln>
        </p:spPr>
      </p:pic>
      <p:sp>
        <p:nvSpPr>
          <p:cNvPr id="95" name="Line 157"/>
          <p:cNvSpPr/>
          <p:nvPr/>
        </p:nvSpPr>
        <p:spPr>
          <a:xfrm flipV="1">
            <a:off x="611280" y="1267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58"/>
          <p:cNvSpPr/>
          <p:nvPr/>
        </p:nvSpPr>
        <p:spPr>
          <a:xfrm>
            <a:off x="4284720" y="5300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56000" y="3284640"/>
          <a:ext cx="4537080" cy="1584360"/>
        </p:xfrm>
        <a:graphic>
          <a:graphicData uri="http://schemas.openxmlformats.org/drawingml/2006/table">
            <a:tbl>
              <a:tblPr/>
              <a:tblGrid>
                <a:gridCol w="1873440"/>
                <a:gridCol w="431640"/>
                <a:gridCol w="503280"/>
                <a:gridCol w="432000"/>
                <a:gridCol w="433080"/>
                <a:gridCol w="358920"/>
                <a:gridCol w="50472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ârsta în l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Număr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kilogr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196"/>
          <p:cNvSpPr/>
          <p:nvPr/>
        </p:nvSpPr>
        <p:spPr>
          <a:xfrm>
            <a:off x="4211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00"/>
          <p:cNvSpPr/>
          <p:nvPr/>
        </p:nvSpPr>
        <p:spPr>
          <a:xfrm flipV="1">
            <a:off x="3924360" y="1988640"/>
            <a:ext cx="36036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1"/>
          <p:cNvSpPr/>
          <p:nvPr/>
        </p:nvSpPr>
        <p:spPr>
          <a:xfrm>
            <a:off x="0" y="134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189000"/>
            <a:ext cx="874872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Uneşte printr-o linie fiecare ceas cu dreptunghiul în care s-a notat ora indicată de ac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Ceas%20perete%20plastic%20transparent%20D-30cm%20cifre%20arabe%20KANGARO"/>
          <p:cNvPicPr/>
          <p:nvPr/>
        </p:nvPicPr>
        <p:blipFill>
          <a:blip r:embed="rId1"/>
          <a:stretch/>
        </p:blipFill>
        <p:spPr>
          <a:xfrm>
            <a:off x="324000" y="1197000"/>
            <a:ext cx="129672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8"/>
          <p:cNvSpPr/>
          <p:nvPr/>
        </p:nvSpPr>
        <p:spPr>
          <a:xfrm>
            <a:off x="1908000" y="1557360"/>
            <a:ext cx="7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492280"/>
            <a:ext cx="1366920" cy="1224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1440000" cy="12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4" descr=""/>
          <p:cNvPicPr/>
          <p:nvPr/>
        </p:nvPicPr>
        <p:blipFill>
          <a:blip r:embed="rId5">
            <a:alphaModFix amt="51000"/>
          </a:blip>
          <a:stretch/>
        </p:blipFill>
        <p:spPr>
          <a:xfrm>
            <a:off x="6732720" y="1268280"/>
            <a:ext cx="1726920" cy="1656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Line 56"/>
          <p:cNvSpPr/>
          <p:nvPr/>
        </p:nvSpPr>
        <p:spPr>
          <a:xfrm>
            <a:off x="500364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8" descr=""/>
          <p:cNvPicPr/>
          <p:nvPr/>
        </p:nvPicPr>
        <p:blipFill>
          <a:blip r:embed="rId6">
            <a:alphaModFix amt="51000"/>
          </a:blip>
          <a:stretch/>
        </p:blipFill>
        <p:spPr>
          <a:xfrm>
            <a:off x="6804000" y="3141720"/>
            <a:ext cx="1727280" cy="1655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0" name="Picture 59" descr=""/>
          <p:cNvPicPr/>
          <p:nvPr/>
        </p:nvPicPr>
        <p:blipFill>
          <a:blip r:embed="rId7">
            <a:alphaModFix amt="51000"/>
          </a:blip>
          <a:stretch/>
        </p:blipFill>
        <p:spPr>
          <a:xfrm>
            <a:off x="6877080" y="4941720"/>
            <a:ext cx="1727280" cy="1656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1" name="Line 60"/>
          <p:cNvSpPr/>
          <p:nvPr/>
        </p:nvSpPr>
        <p:spPr>
          <a:xfrm>
            <a:off x="7667640" y="213372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2"/>
          <p:cNvSpPr/>
          <p:nvPr/>
        </p:nvSpPr>
        <p:spPr>
          <a:xfrm flipV="1">
            <a:off x="7667640" y="1484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63"/>
          <p:cNvSpPr/>
          <p:nvPr/>
        </p:nvSpPr>
        <p:spPr>
          <a:xfrm flipH="1">
            <a:off x="7595640" y="2060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5"/>
          <p:cNvSpPr/>
          <p:nvPr/>
        </p:nvSpPr>
        <p:spPr>
          <a:xfrm flipH="1">
            <a:off x="7380360" y="4076640"/>
            <a:ext cx="21600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7667640" y="3357360"/>
            <a:ext cx="14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68"/>
          <p:cNvSpPr/>
          <p:nvPr/>
        </p:nvSpPr>
        <p:spPr>
          <a:xfrm flipH="1">
            <a:off x="7595640" y="39337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0"/>
          <p:cNvSpPr/>
          <p:nvPr/>
        </p:nvSpPr>
        <p:spPr>
          <a:xfrm flipV="1">
            <a:off x="7812000" y="5229000"/>
            <a:ext cx="287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1"/>
          <p:cNvSpPr/>
          <p:nvPr/>
        </p:nvSpPr>
        <p:spPr>
          <a:xfrm>
            <a:off x="7740720" y="5661000"/>
            <a:ext cx="3603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2"/>
          <p:cNvSpPr/>
          <p:nvPr/>
        </p:nvSpPr>
        <p:spPr>
          <a:xfrm flipH="1">
            <a:off x="7666920" y="56610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3419640" y="134136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9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8"/>
          <p:cNvSpPr/>
          <p:nvPr/>
        </p:nvSpPr>
        <p:spPr>
          <a:xfrm>
            <a:off x="3419640" y="198900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8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9"/>
          <p:cNvSpPr/>
          <p:nvPr/>
        </p:nvSpPr>
        <p:spPr>
          <a:xfrm>
            <a:off x="3419640" y="27082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6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0"/>
          <p:cNvSpPr/>
          <p:nvPr/>
        </p:nvSpPr>
        <p:spPr>
          <a:xfrm>
            <a:off x="3419640" y="35002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3419640" y="422100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0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3419640" y="494172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3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3"/>
          <p:cNvSpPr/>
          <p:nvPr/>
        </p:nvSpPr>
        <p:spPr>
          <a:xfrm>
            <a:off x="3419640" y="57340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21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468360" y="260280"/>
            <a:ext cx="8280360" cy="1381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Câte ore şi minute mai sunt până la sfârşitul unei zile, dacă ceasul indică ora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 şi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min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Răspu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236000" y="620640"/>
            <a:ext cx="122364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395280" y="1844640"/>
            <a:ext cx="8424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cc"/>
                </a:solidFill>
                <a:latin typeface="Times New Roman"/>
              </a:rPr>
              <a:t>Răspunde la întrebare! Câte minute durează?</a:t>
            </a: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                                  O oră de curs şcolar?                                                                         O recreaţie mare?                                                                              O recreaţie obişnuit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95280" y="3789360"/>
            <a:ext cx="8352000" cy="27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e zi este mâine dacă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a) ieri a fost duminică                                                                     b) alaltăieri a fost sâmbătă                                                              c) azi este vineri                                                                               d) peste trei zile va fi luni                                                               e) acum 8 zile a fost miercuri                                                         f) poimâine va fi mar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APUSA HAINE LAC"/>
          <p:cNvPicPr/>
          <p:nvPr/>
        </p:nvPicPr>
        <p:blipFill>
          <a:blip r:embed="rId1"/>
          <a:stretch/>
        </p:blipFill>
        <p:spPr>
          <a:xfrm>
            <a:off x="4788000" y="1197000"/>
            <a:ext cx="24001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SINA COCA COLA"/>
          <p:cNvPicPr/>
          <p:nvPr/>
        </p:nvPicPr>
        <p:blipFill>
          <a:blip r:embed="rId2"/>
          <a:stretch/>
        </p:blipFill>
        <p:spPr>
          <a:xfrm rot="615000">
            <a:off x="758880" y="1176480"/>
            <a:ext cx="2949480" cy="1657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468360" y="189000"/>
            <a:ext cx="81360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Compuneţi o problemă care să se rezolve prin două operaţii folosind următoarele d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55640" y="2852640"/>
            <a:ext cx="2448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197 maşinuţ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cu 165 mai multe păpuş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3500280"/>
            <a:ext cx="85690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50920" y="260280"/>
            <a:ext cx="856908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Priveşte cadranul ceasului apoi subliniază răspunsul corect!              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Peste câte minute va fi ora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0 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4000" y="134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16000" y="126828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6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5867280" y="1484280"/>
            <a:ext cx="2949840" cy="273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1" name="Line 9"/>
          <p:cNvSpPr/>
          <p:nvPr/>
        </p:nvSpPr>
        <p:spPr>
          <a:xfrm flipH="1">
            <a:off x="6588000" y="292428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7380360" y="1844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164360" y="2637000"/>
            <a:ext cx="360360" cy="360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116000" y="198900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20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116000" y="270828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95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16000" y="357336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4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4000" y="206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2400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2400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24000" y="4653000"/>
            <a:ext cx="835164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Trebuie tăiată o sfoară de 10 m, din ,,metru în metru’’.                   Care este numărul de tăietu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755640" y="5877000"/>
            <a:ext cx="756144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5"/>
          <p:cNvSpPr/>
          <p:nvPr/>
        </p:nvSpPr>
        <p:spPr>
          <a:xfrm rot="5400000">
            <a:off x="4392000" y="2313360"/>
            <a:ext cx="288720" cy="7561440"/>
          </a:xfrm>
          <a:custGeom>
            <a:avLst/>
            <a:gdLst>
              <a:gd name="textAreaLeft" fmla="*/ 0 w 288720"/>
              <a:gd name="textAreaRight" fmla="*/ 104040 w 288720"/>
              <a:gd name="textAreaTop" fmla="*/ 196920 h 7561440"/>
              <a:gd name="textAreaBottom" fmla="*/ 7364520 h 756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284720" y="6165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79280" y="189000"/>
            <a:ext cx="8785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O muscă parcurge drumul de la A la F, ca în imaginea de mai jos.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Calculează câţi metri măsoară distanţa parcursă de musc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250920" y="2565360"/>
            <a:ext cx="20160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2268360" y="1699920"/>
            <a:ext cx="216000" cy="865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2484360" y="1341000"/>
            <a:ext cx="2735280" cy="360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47636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41128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9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348000" y="10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148360" y="1341360"/>
            <a:ext cx="1368360" cy="1079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 rot="2388000">
            <a:off x="5578920" y="1557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6516720" y="1557000"/>
            <a:ext cx="2305080" cy="863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 rot="20146800">
            <a:off x="7164360" y="1483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250920" y="2708280"/>
            <a:ext cx="864216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8" descr="I0000016"/>
          <p:cNvPicPr/>
          <p:nvPr/>
        </p:nvPicPr>
        <p:blipFill>
          <a:blip r:embed="rId1"/>
          <a:stretch/>
        </p:blipFill>
        <p:spPr>
          <a:xfrm rot="20979000">
            <a:off x="394920" y="1988640"/>
            <a:ext cx="1079640" cy="470160"/>
          </a:xfrm>
          <a:prstGeom prst="rect">
            <a:avLst/>
          </a:prstGeom>
          <a:ln w="0">
            <a:noFill/>
          </a:ln>
        </p:spPr>
      </p:pic>
      <p:sp>
        <p:nvSpPr>
          <p:cNvPr id="167" name="Oval 19"/>
          <p:cNvSpPr/>
          <p:nvPr/>
        </p:nvSpPr>
        <p:spPr>
          <a:xfrm>
            <a:off x="250920" y="2349360"/>
            <a:ext cx="712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8748720" y="1413000"/>
            <a:ext cx="712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250920" y="3284640"/>
            <a:ext cx="8713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0000"/>
                </a:solidFill>
                <a:latin typeface="Times New Roman"/>
              </a:rPr>
              <a:t>Trei copii îşi fac programul pentru vacanţa m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250920" y="378936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Dan – ,, Dacă plec sâmbătă la bunica şi stau acolo 9 zile mă voi întoarc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250920" y="458136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lad  - ,, Voi pleca marţi la mare şi în aceeaşi săptămână mă voi întoarce, dar sâmbătă. Voi sta la mare         zil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250920" y="5877000"/>
            <a:ext cx="84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50920" y="537372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Ion - ,, Voi sta 5 zile la vărul meu, Mihai, la care plec marţi. Trebuie să plec de la e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5508720" y="4941720"/>
            <a:ext cx="4316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547640" y="4149720"/>
            <a:ext cx="1944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3419640" y="5734080"/>
            <a:ext cx="1873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4-23T05:49:28Z</dcterms:modified>
  <cp:revision>100</cp:revision>
  <dc:subject/>
  <dc:title>Unităţi de măsură - recapitulare</dc:title>
</cp:coreProperties>
</file>